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0137544"/>
        <c:axId val="59916010"/>
      </c:barChart>
      <c:catAx>
        <c:axId val="3013754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9916010"/>
        <c:crosses val="autoZero"/>
        <c:auto val="1"/>
        <c:lblAlgn val="ctr"/>
        <c:lblOffset val="100"/>
        <c:noMultiLvlLbl val="0"/>
      </c:catAx>
      <c:valAx>
        <c:axId val="5991601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013754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12A01-118E-4BEC-B20B-5ADCBB5C4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554FF-EB3A-439C-AE61-B60091500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36E0C-99CA-4E41-ADDE-A6F87FE5A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5B7C1-5650-4150-BC3C-32B24CC1C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E7752-51A2-482A-9136-B23805C19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71E86-3547-42E4-93A9-1D668BB0A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1BC9B-D392-4563-B686-423F04715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7A716-AE50-4262-9C31-46198DEF1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3ABAA-E03D-42ED-9A14-447DA442C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82E6C-DF1C-4138-B5D9-40B623092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197FB-0E0B-4E08-9532-7BB030730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498C9-A544-4B2E-A74C-EE88A87E9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F32795-E2D4-4E55-B1A9-48604FF367E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