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73680"/>
        <c:axId val="4596642"/>
      </c:barChart>
      <c:catAx>
        <c:axId val="45073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6642"/>
        <c:crosses val="autoZero"/>
        <c:auto val="1"/>
        <c:lblAlgn val="ctr"/>
        <c:lblOffset val="100"/>
        <c:noMultiLvlLbl val="0"/>
      </c:catAx>
      <c:valAx>
        <c:axId val="4596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3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46C-EE6A-4C5D-828F-D4E81E6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642-D2BE-42E0-97A5-7962D1AB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D2A-7D8C-4622-BE27-F02C5E3D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4450-84BD-4DD6-BEB7-82BB805C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CEB-FEB4-46FE-9364-89F76B7B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1FE-2258-4884-AEA5-445EEC4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C30-4521-48DD-8471-5412467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AAC-A0CA-470C-9967-C4069B7F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751-2D1D-410D-ABF5-23E0F1A4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44B-FEB1-4968-BA1A-6A40811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549-8AC1-44BF-9737-AA1B124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C34-DB84-42DF-822F-02328B1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3E412-AC41-4293-9090-A5DC423AA8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